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92576-BF97-42F4-9261-E72C8C4EE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166EC-DF22-4742-B43B-621F4C00E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407E4-AA3D-417A-A704-FF148DE2D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5A258-C87F-4FB4-AA9E-8731894C9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4A28E-AB22-4A65-9D6F-57BF6940A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72365-5246-4556-A47C-2B3DE92AE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F71A9-D8F7-45A8-8098-AFD840D0B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C3775-270A-4FC2-823B-7E7A39457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3459D-983D-4022-9B59-97C05575A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736E3-25E1-4AF5-9DFA-40D49121E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68ED3-78C7-46A9-92F8-C684F7B08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C1FA-D559-4671-AA72-4C09B8127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54E8-C37A-4FDA-8625-EF5F3A73CD14}"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571480" y="1981080"/>
            <a:ext cx="725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43" name=""/>
          <p:cNvSpPr/>
          <p:nvPr/>
        </p:nvSpPr>
        <p:spPr>
          <a:xfrm>
            <a:off x="5154840" y="3505320"/>
            <a:ext cx="33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VNI-Helve"/>
              </a:rPr>
              <a:t>TS. LEÂ THAØNH LONG</a:t>
            </a:r>
            <a:endParaRPr b="0" lang="en-US" sz="2400" spc="-1" strike="noStrike">
              <a:solidFill>
                <a:srgbClr val="000000"/>
              </a:solidFill>
              <a:latin typeface="Times New Roman"/>
            </a:endParaRPr>
          </a:p>
        </p:txBody>
      </p:sp>
      <p:sp>
        <p:nvSpPr>
          <p:cNvPr id="4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838080" y="3048120"/>
            <a:ext cx="2588760" cy="2771280"/>
            <a:chOff x="838080" y="3048120"/>
            <a:chExt cx="2588760" cy="2771280"/>
          </a:xfrm>
        </p:grpSpPr>
        <p:grpSp>
          <p:nvGrpSpPr>
            <p:cNvPr id="46" name=""/>
            <p:cNvGrpSpPr/>
            <p:nvPr/>
          </p:nvGrpSpPr>
          <p:grpSpPr>
            <a:xfrm>
              <a:off x="838080" y="3048120"/>
              <a:ext cx="2588760" cy="2068560"/>
              <a:chOff x="838080" y="3048120"/>
              <a:chExt cx="2588760" cy="2068560"/>
            </a:xfrm>
          </p:grpSpPr>
          <p:sp>
            <p:nvSpPr>
              <p:cNvPr id="47" name=""/>
              <p:cNvSpPr/>
              <p:nvPr/>
            </p:nvSpPr>
            <p:spPr>
              <a:xfrm>
                <a:off x="838080" y="3048120"/>
                <a:ext cx="2588760" cy="20685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883800" y="3249000"/>
                <a:ext cx="2496240" cy="1351800"/>
                <a:chOff x="883800" y="3249000"/>
                <a:chExt cx="2496240" cy="1351800"/>
              </a:xfrm>
            </p:grpSpPr>
            <p:sp>
              <p:nvSpPr>
                <p:cNvPr id="49" name=""/>
                <p:cNvSpPr/>
                <p:nvPr/>
              </p:nvSpPr>
              <p:spPr>
                <a:xfrm>
                  <a:off x="2140920" y="362952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 name=""/>
                <p:cNvSpPr/>
                <p:nvPr/>
              </p:nvSpPr>
              <p:spPr>
                <a:xfrm>
                  <a:off x="2115720" y="35978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1" name=""/>
                <p:cNvGrpSpPr/>
                <p:nvPr/>
              </p:nvGrpSpPr>
              <p:grpSpPr>
                <a:xfrm>
                  <a:off x="3160440" y="4370760"/>
                  <a:ext cx="219600" cy="137160"/>
                  <a:chOff x="3160440" y="4370760"/>
                  <a:chExt cx="219600" cy="137160"/>
                </a:xfrm>
              </p:grpSpPr>
              <p:sp>
                <p:nvSpPr>
                  <p:cNvPr id="52" name=""/>
                  <p:cNvSpPr/>
                  <p:nvPr/>
                </p:nvSpPr>
                <p:spPr>
                  <a:xfrm>
                    <a:off x="3345840" y="437076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 name=""/>
                  <p:cNvSpPr/>
                  <p:nvPr/>
                </p:nvSpPr>
                <p:spPr>
                  <a:xfrm>
                    <a:off x="3279240" y="443844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 name=""/>
                  <p:cNvSpPr/>
                  <p:nvPr/>
                </p:nvSpPr>
                <p:spPr>
                  <a:xfrm>
                    <a:off x="3160440" y="444276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5" name=""/>
                <p:cNvSpPr/>
                <p:nvPr/>
              </p:nvSpPr>
              <p:spPr>
                <a:xfrm>
                  <a:off x="3204360" y="4049640"/>
                  <a:ext cx="4068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6" name=""/>
                <p:cNvGrpSpPr/>
                <p:nvPr/>
              </p:nvGrpSpPr>
              <p:grpSpPr>
                <a:xfrm>
                  <a:off x="2768760" y="3449880"/>
                  <a:ext cx="464760" cy="973800"/>
                  <a:chOff x="2768760" y="3449880"/>
                  <a:chExt cx="464760" cy="973800"/>
                </a:xfrm>
              </p:grpSpPr>
              <p:grpSp>
                <p:nvGrpSpPr>
                  <p:cNvPr id="57" name=""/>
                  <p:cNvGrpSpPr/>
                  <p:nvPr/>
                </p:nvGrpSpPr>
                <p:grpSpPr>
                  <a:xfrm>
                    <a:off x="2843280" y="3549600"/>
                    <a:ext cx="104400" cy="291960"/>
                    <a:chOff x="2843280" y="3549600"/>
                    <a:chExt cx="104400" cy="291960"/>
                  </a:xfrm>
                </p:grpSpPr>
                <p:sp>
                  <p:nvSpPr>
                    <p:cNvPr id="58" name=""/>
                    <p:cNvSpPr/>
                    <p:nvPr/>
                  </p:nvSpPr>
                  <p:spPr>
                    <a:xfrm>
                      <a:off x="2843280" y="381168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 name=""/>
                    <p:cNvSpPr/>
                    <p:nvPr/>
                  </p:nvSpPr>
                  <p:spPr>
                    <a:xfrm>
                      <a:off x="2910240" y="375948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 name=""/>
                    <p:cNvSpPr/>
                    <p:nvPr/>
                  </p:nvSpPr>
                  <p:spPr>
                    <a:xfrm>
                      <a:off x="2904120" y="354960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1" name=""/>
                  <p:cNvSpPr/>
                  <p:nvPr/>
                </p:nvSpPr>
                <p:spPr>
                  <a:xfrm>
                    <a:off x="2941560" y="4141440"/>
                    <a:ext cx="29196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73160" y="408204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 name=""/>
                  <p:cNvSpPr/>
                  <p:nvPr/>
                </p:nvSpPr>
                <p:spPr>
                  <a:xfrm>
                    <a:off x="2960280" y="400536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 name=""/>
                  <p:cNvSpPr/>
                  <p:nvPr/>
                </p:nvSpPr>
                <p:spPr>
                  <a:xfrm>
                    <a:off x="2883960" y="397080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055680" y="403164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68760" y="396360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35440" y="3826080"/>
                    <a:ext cx="92160" cy="14148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15280" y="359136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38600" y="344988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1879920" y="3645360"/>
                  <a:ext cx="531000" cy="73368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1917360" y="3252960"/>
                  <a:ext cx="234360" cy="248760"/>
                  <a:chOff x="1917360" y="3252960"/>
                  <a:chExt cx="234360" cy="248760"/>
                </a:xfrm>
              </p:grpSpPr>
              <p:grpSp>
                <p:nvGrpSpPr>
                  <p:cNvPr id="72" name=""/>
                  <p:cNvGrpSpPr/>
                  <p:nvPr/>
                </p:nvGrpSpPr>
                <p:grpSpPr>
                  <a:xfrm>
                    <a:off x="2009160" y="3407760"/>
                    <a:ext cx="73080" cy="93960"/>
                    <a:chOff x="2009160" y="3407760"/>
                    <a:chExt cx="73080" cy="93960"/>
                  </a:xfrm>
                </p:grpSpPr>
                <p:sp>
                  <p:nvSpPr>
                    <p:cNvPr id="73" name=""/>
                    <p:cNvSpPr/>
                    <p:nvPr/>
                  </p:nvSpPr>
                  <p:spPr>
                    <a:xfrm>
                      <a:off x="2009160" y="34423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 name=""/>
                    <p:cNvSpPr/>
                    <p:nvPr/>
                  </p:nvSpPr>
                  <p:spPr>
                    <a:xfrm>
                      <a:off x="2041920" y="34077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1917360" y="3252960"/>
                    <a:ext cx="23436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2332800" y="41464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83800" y="3309480"/>
                  <a:ext cx="563760" cy="63108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88080" y="3249000"/>
                  <a:ext cx="19368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47400" y="3308400"/>
                  <a:ext cx="12348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 name=""/>
                <p:cNvSpPr/>
                <p:nvPr/>
              </p:nvSpPr>
              <p:spPr>
                <a:xfrm>
                  <a:off x="1317960" y="378576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1" name=""/>
                <p:cNvSpPr/>
                <p:nvPr/>
              </p:nvSpPr>
              <p:spPr>
                <a:xfrm>
                  <a:off x="1395720" y="38134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 name=""/>
                <p:cNvSpPr/>
                <p:nvPr/>
              </p:nvSpPr>
              <p:spPr>
                <a:xfrm>
                  <a:off x="1360080" y="3910320"/>
                  <a:ext cx="357480" cy="69048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1487520" y="3749040"/>
              <a:ext cx="1240200" cy="2070360"/>
              <a:chOff x="1487520" y="3749040"/>
              <a:chExt cx="1240200" cy="2070360"/>
            </a:xfrm>
          </p:grpSpPr>
          <p:sp>
            <p:nvSpPr>
              <p:cNvPr id="84" name=""/>
              <p:cNvSpPr/>
              <p:nvPr/>
            </p:nvSpPr>
            <p:spPr>
              <a:xfrm>
                <a:off x="1487520" y="3749040"/>
                <a:ext cx="768600" cy="207036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199960" y="3767400"/>
                <a:ext cx="527760" cy="2007000"/>
                <a:chOff x="2199960" y="3767400"/>
                <a:chExt cx="527760" cy="2007000"/>
              </a:xfrm>
            </p:grpSpPr>
            <p:sp>
              <p:nvSpPr>
                <p:cNvPr id="86" name=""/>
                <p:cNvSpPr/>
                <p:nvPr/>
              </p:nvSpPr>
              <p:spPr>
                <a:xfrm>
                  <a:off x="2199960" y="3767400"/>
                  <a:ext cx="527760" cy="200700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41800" y="3959640"/>
                  <a:ext cx="18576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40360" y="4053960"/>
                  <a:ext cx="98280" cy="35892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36318857-FCE3-4E9E-A310-B3374BB6ED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hình quaûn lyù chieán löô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Nhieäm vuï chieán löôïc vaø muïc tieâu cuûa coâng ty</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ích vaø ruûi ro cuûa quaûn ly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A3AC2B6-3F85-48F5-B318-75196ABEE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tieán trình xaùc ñònh caùc muïc tieâu cô baûn daøi haïn cuûa coâng ty, löïa choïn caùch thöùc hoaëc phöông höôùng haønh ñoäng vaø phaân boå caùc taøi nguyeân thieát yeáu ñeå thöïc hieän caùc muïc tieâu ñoù” </a:t>
            </a:r>
            <a:r>
              <a:rPr b="1" lang="en-US" sz="2400" spc="-1" strike="noStrike">
                <a:solidFill>
                  <a:srgbClr val="000000"/>
                </a:solidFill>
                <a:latin typeface="VNI-Helve"/>
              </a:rPr>
              <a:t>(Alfred Chander)</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daïng thöùc hoaëc moät keá hoaïch phoái hôïp caùc muïc tieâu chính, caùc chính saùch vaø caùc trình töï haønh ñoäng thaønh moät toång theå thoáng nhaát” </a:t>
            </a:r>
            <a:r>
              <a:rPr b="1" lang="en-US" sz="2400" spc="-1" strike="noStrike">
                <a:solidFill>
                  <a:srgbClr val="000000"/>
                </a:solidFill>
                <a:latin typeface="VNI-Helve"/>
              </a:rPr>
              <a:t>(James B. Quinn)</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keá hoaïch mang tính thoáng nhaát, tính toaøn dieän, vaø tính phoái hôïp, ñöôïc thieát keá ñeå ñaûm baûo raèng caùc muïc tieâu cô baûn cuûa coâng ty seõ ñöôïc thöïc hieän” </a:t>
            </a:r>
            <a:r>
              <a:rPr b="1" lang="en-US" sz="2400" spc="-1" strike="noStrike">
                <a:solidFill>
                  <a:srgbClr val="000000"/>
                </a:solidFill>
                <a:latin typeface="VNI-Helve"/>
              </a:rPr>
              <a:t>(William J. Glueck)</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4AEE0F5-DCC1-4E8C-85C9-4FB7A823EC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 (tt)</a:t>
            </a:r>
            <a:endParaRPr b="1" i="1" lang="en-US" sz="3400" spc="-1" strike="noStrike">
              <a:solidFill>
                <a:srgbClr val="ffff00"/>
              </a:solidFill>
              <a:latin typeface="VNI-Helve"/>
            </a:endParaRPr>
          </a:p>
        </p:txBody>
      </p:sp>
      <p:sp>
        <p:nvSpPr>
          <p:cNvPr id="155" name=""/>
          <p:cNvSpPr/>
          <p:nvPr/>
        </p:nvSpPr>
        <p:spPr>
          <a:xfrm>
            <a:off x="1219320" y="2133720"/>
            <a:ext cx="2131920" cy="122400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Muïc tieâu</a:t>
            </a:r>
            <a:endParaRPr b="0" lang="en-US" sz="2400" spc="-1" strike="noStrike">
              <a:solidFill>
                <a:srgbClr val="000000"/>
              </a:solidFill>
              <a:latin typeface="Times New Roman"/>
            </a:endParaRPr>
          </a:p>
        </p:txBody>
      </p:sp>
      <p:sp>
        <p:nvSpPr>
          <p:cNvPr id="156" name=""/>
          <p:cNvSpPr/>
          <p:nvPr/>
        </p:nvSpPr>
        <p:spPr>
          <a:xfrm>
            <a:off x="5370480" y="2057400"/>
            <a:ext cx="2173320" cy="129852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öông höôù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aønh ñoäng</a:t>
            </a:r>
            <a:endParaRPr b="0" lang="en-US" sz="2400" spc="-1" strike="noStrike">
              <a:solidFill>
                <a:srgbClr val="000000"/>
              </a:solidFill>
              <a:latin typeface="Times New Roman"/>
            </a:endParaRPr>
          </a:p>
        </p:txBody>
      </p:sp>
      <p:sp>
        <p:nvSpPr>
          <p:cNvPr id="157" name=""/>
          <p:cNvSpPr/>
          <p:nvPr/>
        </p:nvSpPr>
        <p:spPr>
          <a:xfrm>
            <a:off x="3352680" y="4495680"/>
            <a:ext cx="2084400" cy="124164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aân boå nguoàn löïc</a:t>
            </a:r>
            <a:endParaRPr b="0" lang="en-US" sz="2400" spc="-1" strike="noStrike">
              <a:solidFill>
                <a:srgbClr val="000000"/>
              </a:solidFill>
              <a:latin typeface="Times New Roman"/>
            </a:endParaRPr>
          </a:p>
        </p:txBody>
      </p:sp>
      <p:sp>
        <p:nvSpPr>
          <p:cNvPr id="158" name=""/>
          <p:cNvSpPr/>
          <p:nvPr/>
        </p:nvSpPr>
        <p:spPr>
          <a:xfrm flipH="1" flipV="1">
            <a:off x="2057040" y="3580920"/>
            <a:ext cx="1143000" cy="1600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543480" y="2666880"/>
            <a:ext cx="1663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562720" y="3505320"/>
            <a:ext cx="1117440" cy="15238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5E38009-4E8D-4B07-A47F-A552F685D9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a:t>
            </a:r>
            <a:r>
              <a:rPr b="0" i="1" lang="en-US" sz="2800" spc="-1" strike="noStrike">
                <a:solidFill>
                  <a:srgbClr val="000000"/>
                </a:solidFill>
                <a:latin typeface="VNI-Helve"/>
              </a:rPr>
              <a:t>Quaûn lyù chieán löôïc (Strategic Management) laø quaù trình nghieân cöùu, phaân tích moâi tröôøng beân ngoaøi vaø beân trong coâng ty; hieän taïi cuõng nhö töông lai; xaùc laäp caùc muïc tieâu cuûa coâng ty, hoaïch ñònh, thöïc hieän vaø kieåm tra chieán löôïc nhaèm söû duïng hieäu quaû caùc nguoàn löïc ñeå ñaït ñöôïc caùc muïc tieâu mong muoán</a:t>
            </a: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9D27D3D-0943-45F3-AA87-5D7AA0480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 (tt)</a:t>
            </a:r>
            <a:endParaRPr b="1" i="1" lang="en-US" sz="3400" spc="-1" strike="noStrike">
              <a:solidFill>
                <a:srgbClr val="ffff00"/>
              </a:solidFill>
              <a:latin typeface="VNI-Helve"/>
            </a:endParaRPr>
          </a:p>
        </p:txBody>
      </p:sp>
      <p:sp>
        <p:nvSpPr>
          <p:cNvPr id="16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xaùc ñònh muïc tieâ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thöïc hieän, kieåm tra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û duïng hieäu quaû caùc nguoàn löïc (resource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DFFE2FB-9C50-498A-873C-74B4B449DD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 cuûa quaûn lyù chieán löôïc </a:t>
            </a:r>
            <a:endParaRPr b="1" i="1" lang="en-US" sz="3400" spc="-1" strike="noStrike">
              <a:solidFill>
                <a:srgbClr val="ffff00"/>
              </a:solidFill>
              <a:latin typeface="VNI-Helve"/>
            </a:endParaRPr>
          </a:p>
        </p:txBody>
      </p:sp>
      <p:sp>
        <p:nvSpPr>
          <p:cNvPr id="16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o ñöôïc lôïi theá caïnh tr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ïn cheá ruûi r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i coù muïc tieâu &amp; phaân tích khaû naêng thöïc hieä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kinh do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phaùp thay theá vaø bieän phaùp hoã tr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hôïp chieán löôïc coù döï ñònh vaø chieán löôïc môùi xuaát hie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63620A7-1217-4F2B-A11C-F2F1693868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döï ñònh vaø thöïc hieän</a:t>
            </a:r>
            <a:endParaRPr b="1" i="1" lang="en-US" sz="3400" spc="-1" strike="noStrike">
              <a:solidFill>
                <a:srgbClr val="ffff00"/>
              </a:solidFill>
              <a:latin typeface="VNI-Helve"/>
            </a:endParaRPr>
          </a:p>
        </p:txBody>
      </p:sp>
      <p:grpSp>
        <p:nvGrpSpPr>
          <p:cNvPr id="168" name=""/>
          <p:cNvGrpSpPr/>
          <p:nvPr/>
        </p:nvGrpSpPr>
        <p:grpSpPr>
          <a:xfrm>
            <a:off x="1371600" y="2209680"/>
            <a:ext cx="6365880" cy="2975040"/>
            <a:chOff x="1371600" y="2209680"/>
            <a:chExt cx="6365880" cy="2975040"/>
          </a:xfrm>
        </p:grpSpPr>
        <p:sp>
          <p:nvSpPr>
            <p:cNvPr id="169" name=""/>
            <p:cNvSpPr/>
            <p:nvPr/>
          </p:nvSpPr>
          <p:spPr>
            <a:xfrm>
              <a:off x="1371600" y="2209680"/>
              <a:ext cx="1108080" cy="15354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döï ñònh</a:t>
              </a:r>
              <a:endParaRPr b="0" lang="en-US" sz="1800" spc="-1" strike="noStrike">
                <a:solidFill>
                  <a:srgbClr val="000000"/>
                </a:solidFill>
                <a:latin typeface="Times New Roman"/>
              </a:endParaRPr>
            </a:p>
          </p:txBody>
        </p:sp>
        <p:sp>
          <p:nvSpPr>
            <p:cNvPr id="170" name=""/>
            <p:cNvSpPr/>
            <p:nvPr/>
          </p:nvSpPr>
          <p:spPr>
            <a:xfrm>
              <a:off x="3983040" y="2209680"/>
              <a:ext cx="1068480" cy="1463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NI-Helve"/>
                </a:rPr>
                <a:t>Chieán löôïc caân nhaéc</a:t>
              </a:r>
              <a:endParaRPr b="0" lang="en-US" sz="1800" spc="-1" strike="noStrike">
                <a:solidFill>
                  <a:srgbClr val="000000"/>
                </a:solidFill>
                <a:latin typeface="Times New Roman"/>
              </a:endParaRPr>
            </a:p>
          </p:txBody>
        </p:sp>
        <p:sp>
          <p:nvSpPr>
            <p:cNvPr id="171" name=""/>
            <p:cNvSpPr/>
            <p:nvPr/>
          </p:nvSpPr>
          <p:spPr>
            <a:xfrm>
              <a:off x="6595920" y="2209680"/>
              <a:ext cx="1141560" cy="1524240"/>
            </a:xfrm>
            <a:prstGeom prst="rect">
              <a:avLst/>
            </a:prstGeom>
            <a:solidFill>
              <a:srgbClr val="00cc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thöïc hieän</a:t>
              </a:r>
              <a:endParaRPr b="0" lang="en-US" sz="1800" spc="-1" strike="noStrike">
                <a:solidFill>
                  <a:srgbClr val="000000"/>
                </a:solidFill>
                <a:latin typeface="Times New Roman"/>
              </a:endParaRPr>
            </a:p>
          </p:txBody>
        </p:sp>
        <p:sp>
          <p:nvSpPr>
            <p:cNvPr id="172" name=""/>
            <p:cNvSpPr/>
            <p:nvPr/>
          </p:nvSpPr>
          <p:spPr>
            <a:xfrm>
              <a:off x="2676600" y="3009960"/>
              <a:ext cx="1069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89480" y="3009960"/>
              <a:ext cx="10684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70240" y="3303720"/>
              <a:ext cx="0" cy="887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38280" y="4457880"/>
              <a:ext cx="1544760" cy="726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khoâng thöïc hieän</a:t>
              </a:r>
              <a:endParaRPr b="0" lang="en-US" sz="1800" spc="-1" strike="noStrike">
                <a:solidFill>
                  <a:srgbClr val="000000"/>
                </a:solidFill>
                <a:latin typeface="Times New Roman"/>
              </a:endParaRPr>
            </a:p>
          </p:txBody>
        </p:sp>
        <p:sp>
          <p:nvSpPr>
            <p:cNvPr id="176" name=""/>
            <p:cNvSpPr/>
            <p:nvPr/>
          </p:nvSpPr>
          <p:spPr>
            <a:xfrm>
              <a:off x="5764320" y="3276720"/>
              <a:ext cx="593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764320" y="3303720"/>
              <a:ext cx="0" cy="887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79840" y="3276720"/>
              <a:ext cx="593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94280" y="4425840"/>
              <a:ext cx="1432080" cy="725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môùi xuaát hieän</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6960E8DD-B64C-4251-A138-468084C736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quaûn lyù chieán löôïc </a:t>
            </a:r>
            <a:endParaRPr b="1" i="1" lang="en-US" sz="3400" spc="-1" strike="noStrike">
              <a:solidFill>
                <a:srgbClr val="ffff00"/>
              </a:solidFill>
              <a:latin typeface="VNI-Helve"/>
            </a:endParaRPr>
          </a:p>
        </p:txBody>
      </p:sp>
      <p:sp>
        <p:nvSpPr>
          <p:cNvPr id="181" name=""/>
          <p:cNvSpPr/>
          <p:nvPr/>
        </p:nvSpPr>
        <p:spPr>
          <a:xfrm>
            <a:off x="380880" y="2971800"/>
            <a:ext cx="83844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aàm nhì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Nhieäm vuï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
          <p:cNvSpPr/>
          <p:nvPr/>
        </p:nvSpPr>
        <p:spPr>
          <a:xfrm>
            <a:off x="1811160" y="1371600"/>
            <a:ext cx="85572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ngoaø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3" name=""/>
          <p:cNvSpPr/>
          <p:nvPr/>
        </p:nvSpPr>
        <p:spPr>
          <a:xfrm>
            <a:off x="1828800" y="4572000"/>
            <a:ext cx="83808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tro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4" name=""/>
          <p:cNvSpPr/>
          <p:nvPr/>
        </p:nvSpPr>
        <p:spPr>
          <a:xfrm>
            <a:off x="1828800" y="2971800"/>
            <a:ext cx="83808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 moâi tröôøng kinh do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5" name=""/>
          <p:cNvSpPr/>
          <p:nvPr/>
        </p:nvSpPr>
        <p:spPr>
          <a:xfrm>
            <a:off x="3200400" y="2971800"/>
            <a:ext cx="838080" cy="12193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ùc ñònh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Muïc tieâu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6" name=""/>
          <p:cNvSpPr/>
          <p:nvPr/>
        </p:nvSpPr>
        <p:spPr>
          <a:xfrm>
            <a:off x="4191120" y="2438280"/>
            <a:ext cx="1600200" cy="38124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ây döïng vaø löïa choïn chieán löôïc</a:t>
            </a:r>
            <a:endParaRPr b="0" lang="en-US" sz="1100" spc="-1" strike="noStrike">
              <a:solidFill>
                <a:srgbClr val="000000"/>
              </a:solidFill>
              <a:latin typeface="Times New Roman"/>
            </a:endParaRPr>
          </a:p>
        </p:txBody>
      </p:sp>
      <p:sp>
        <p:nvSpPr>
          <p:cNvPr id="187" name=""/>
          <p:cNvSpPr/>
          <p:nvPr/>
        </p:nvSpPr>
        <p:spPr>
          <a:xfrm>
            <a:off x="4191120" y="2824200"/>
            <a:ext cx="1600200" cy="4525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8" name=""/>
          <p:cNvSpPr/>
          <p:nvPr/>
        </p:nvSpPr>
        <p:spPr>
          <a:xfrm>
            <a:off x="4191120" y="32767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oång theà</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9" name=""/>
          <p:cNvSpPr/>
          <p:nvPr/>
        </p:nvSpPr>
        <p:spPr>
          <a:xfrm>
            <a:off x="4191120" y="39625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aïnh tr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0" name=""/>
          <p:cNvSpPr/>
          <p:nvPr/>
        </p:nvSpPr>
        <p:spPr>
          <a:xfrm>
            <a:off x="6019920" y="2443320"/>
            <a:ext cx="1600200" cy="6807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6019920" y="3124080"/>
            <a:ext cx="1600200" cy="9097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höïc th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2" name=""/>
          <p:cNvSpPr/>
          <p:nvPr/>
        </p:nvSpPr>
        <p:spPr>
          <a:xfrm>
            <a:off x="6019920" y="3962520"/>
            <a:ext cx="1600200" cy="6094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3" name=""/>
          <p:cNvSpPr/>
          <p:nvPr/>
        </p:nvSpPr>
        <p:spPr>
          <a:xfrm>
            <a:off x="7848720" y="2971800"/>
            <a:ext cx="914400" cy="1219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Kieåm soaùt, Ñaùnh giaù vaø Ñieàu chænh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4" name=""/>
          <p:cNvSpPr/>
          <p:nvPr/>
        </p:nvSpPr>
        <p:spPr>
          <a:xfrm>
            <a:off x="1219320" y="358128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09680" y="266688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220968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66880" y="35812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38480" y="3581280"/>
            <a:ext cx="152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913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3581280"/>
            <a:ext cx="228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01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30592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6172200"/>
            <a:ext cx="7620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8580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58128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8580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50292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0195AE-0167-45AC-A134-E1BD5A6D80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Vision):</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ôïi ra moät ñònh höôùng cho töông lai, moät khaùt voïng maø coâng ty muoán ñaït tôù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öôùng moïi thaønh vieân ñeán moät ñieåm chung trong töông la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phaûi laø moät muïc tieâu haønh ñoäng cuï theå</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vôùi Nhieäm vuï chieán löôïc (missio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5908A14-919C-4E30-8744-159E6A3D04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ieäm vuï chieán löôïc</a:t>
            </a:r>
            <a:endParaRPr b="1" i="1" lang="en-US" sz="3400" spc="-1" strike="noStrike">
              <a:solidFill>
                <a:srgbClr val="ffff00"/>
              </a:solidFill>
              <a:latin typeface="VNI-Helve"/>
            </a:endParaRPr>
          </a:p>
        </p:txBody>
      </p:sp>
      <p:sp>
        <p:nvSpPr>
          <p:cNvPr id="2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äm vuï chieán löôïc (Mission):</a:t>
            </a: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lyù do toàn taïi, yù nghóa cuûa söï toàn taïi vaø caùc hoaït ñoäng cuûa coâng ty.</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muïc ñích chính cuûa coâng ty nhaèm phaân bieät ñaëc tröng cuûa coâng ty vôùi caùc coâng ty khaùc cuøng ngaø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169561B-1F51-44E3-95AE-BFC077E98F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tieâu moân hoïc</a:t>
            </a:r>
            <a:endParaRPr b="1" i="1" lang="en-US" sz="3400" spc="-1" strike="noStrike">
              <a:solidFill>
                <a:srgbClr val="ffff00"/>
              </a:solidFill>
              <a:latin typeface="VNI-Helve"/>
            </a:endParaRPr>
          </a:p>
        </p:txBody>
      </p:sp>
      <p:sp>
        <p:nvSpPr>
          <p:cNvPr id="9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ieåu khaùi nieäm vaø qui trình hoaïch ñònh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ù khaû naêng phaân tích moâi tröôø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oå chöùc thöïc hieän hieäu quaû nhaèm ñaït ñöôïc muïc tieâu cuûa doanh nghieäp.</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693516F-38E1-49B4-834F-B56CB8C4CA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graphicFrame>
        <p:nvGraphicFramePr>
          <p:cNvPr id="213" name=""/>
          <p:cNvGraphicFramePr/>
          <p:nvPr/>
        </p:nvGraphicFramePr>
        <p:xfrm>
          <a:off x="457200" y="1846440"/>
          <a:ext cx="8305920" cy="3927240"/>
        </p:xfrm>
        <a:graphic>
          <a:graphicData uri="http://schemas.openxmlformats.org/presentationml/2006/ole">
            <p:oleObj r:id="rId1" spid="">
              <p:embed/>
              <p:pic>
                <p:nvPicPr>
                  <p:cNvPr id="214" name="" descr=""/>
                  <p:cNvPicPr/>
                  <p:nvPr/>
                </p:nvPicPr>
                <p:blipFill>
                  <a:blip r:embed="rId2"/>
                  <a:stretch/>
                </p:blipFill>
                <p:spPr>
                  <a:xfrm>
                    <a:off x="457200" y="1846440"/>
                    <a:ext cx="8305920" cy="3927240"/>
                  </a:xfrm>
                  <a:prstGeom prst="rect">
                    <a:avLst/>
                  </a:prstGeom>
                  <a:ln w="0">
                    <a:noFill/>
                  </a:ln>
                </p:spPr>
              </p:pic>
            </p:oleObj>
          </a:graphicData>
        </a:graphic>
      </p:graphicFrame>
      <p:sp>
        <p:nvSpPr>
          <p:cNvPr id="3" name="PlaceHolder 2"/>
          <p:cNvSpPr>
            <a:spLocks noGrp="1"/>
          </p:cNvSpPr>
          <p:nvPr>
            <p:ph type="sldNum" idx="3"/>
          </p:nvPr>
        </p:nvSpPr>
        <p:spPr/>
        <p:txBody>
          <a:bodyPr/>
          <a:p>
            <a:fld id="{DDA39CDE-7D79-4D49-8486-0B42E29F7F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Vision</a:t>
            </a:r>
            <a:r>
              <a:rPr b="0" lang="en-US" sz="2400" spc="-1" strike="noStrike">
                <a:solidFill>
                  <a:srgbClr val="000000"/>
                </a:solidFill>
                <a:latin typeface="VNI-Helve"/>
              </a:rPr>
              <a:t> </a:t>
            </a:r>
            <a:br>
              <a:rPr sz="2400"/>
            </a:br>
            <a:r>
              <a:rPr b="0" lang="en-US" sz="2400" spc="-1" strike="noStrike">
                <a:solidFill>
                  <a:srgbClr val="000000"/>
                </a:solidFill>
                <a:latin typeface="VNI-Helve"/>
              </a:rPr>
              <a:t>Where the organization is going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Mission</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Ongoing principles</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Objectives</a:t>
            </a:r>
            <a:r>
              <a:rPr b="0" lang="en-US" sz="2400" spc="-1" strike="noStrike">
                <a:solidFill>
                  <a:srgbClr val="000000"/>
                </a:solidFill>
                <a:latin typeface="VNI-Helve"/>
              </a:rPr>
              <a:t> </a:t>
            </a:r>
            <a:br>
              <a:rPr sz="2400"/>
            </a:br>
            <a:r>
              <a:rPr b="0" lang="en-US" sz="2400" spc="-1" strike="noStrike">
                <a:solidFill>
                  <a:srgbClr val="000000"/>
                </a:solidFill>
                <a:latin typeface="VNI-Helve"/>
              </a:rPr>
              <a:t>Performance outcomes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Strategy </a:t>
            </a:r>
            <a:br>
              <a:rPr sz="2400"/>
            </a:br>
            <a:r>
              <a:rPr b="0" lang="en-US" sz="2400" spc="-1" strike="noStrike">
                <a:solidFill>
                  <a:srgbClr val="000000"/>
                </a:solidFill>
                <a:latin typeface="VNI-Helve"/>
              </a:rPr>
              <a:t>How to achieve the objectives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E80B59A-DF29-4572-95B6-1DC435978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18" name=""/>
          <p:cNvSpPr/>
          <p:nvPr/>
        </p:nvSpPr>
        <p:spPr>
          <a:xfrm>
            <a:off x="228600" y="1390680"/>
            <a:ext cx="8648640" cy="4686120"/>
          </a:xfrm>
          <a:prstGeom prst="rect">
            <a:avLst/>
          </a:prstGeom>
          <a:noFill/>
          <a:ln w="38160">
            <a:solidFill>
              <a:srgbClr val="3333cc"/>
            </a:solidFill>
            <a:miter/>
          </a:ln>
        </p:spPr>
        <p:style>
          <a:lnRef idx="0"/>
          <a:fillRef idx="0"/>
          <a:effectRef idx="0"/>
          <a:fontRef idx="minor"/>
        </p:style>
        <p:txBody>
          <a:bodyPr lIns="90360" rIns="90360" tIns="44280" bIns="44280" anchor="ctr">
            <a:noAutofit/>
          </a:bodyPr>
          <a:p>
            <a:pPr>
              <a:lnSpc>
                <a:spcPct val="100000"/>
              </a:lnSpc>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NI-Helve"/>
              </a:rPr>
              <a:t>McDonald’s</a:t>
            </a:r>
            <a:r>
              <a:rPr b="1" lang="en-US" sz="2400" spc="-1" strike="noStrike">
                <a:solidFill>
                  <a:srgbClr val="008000"/>
                </a:solidFill>
                <a:latin typeface="VNI-Helve"/>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àm nhìn chieán löôïc cuûa McDonald’s laø thoáng trò ngaønh dòch vuï aên uoáng toaøn caàu. Söï thoáng trò toaøn caàu coù nghóa laø thieát laäp moät tieâu chuaån phuïc vuï cho söï thoûa maõn cuûa khaùch haøng, qua ñoù gia taêng thò phaàn vaø lôïi nhuaän baèng  Söï thuaän tieän, Giaù trò, vaø Chieán löôïc thöïc thi.</a:t>
            </a:r>
            <a:endParaRPr b="0" lang="en-US" sz="2400" spc="-1" strike="noStrike">
              <a:solidFill>
                <a:srgbClr val="000000"/>
              </a:solidFill>
              <a:latin typeface="Times New Roman"/>
            </a:endParaRPr>
          </a:p>
        </p:txBody>
      </p:sp>
      <p:graphicFrame>
        <p:nvGraphicFramePr>
          <p:cNvPr id="219" name=""/>
          <p:cNvGraphicFramePr/>
          <p:nvPr/>
        </p:nvGraphicFramePr>
        <p:xfrm>
          <a:off x="7232760" y="1539720"/>
          <a:ext cx="1460520" cy="1152720"/>
        </p:xfrm>
        <a:graphic>
          <a:graphicData uri="http://schemas.openxmlformats.org/presentationml/2006/ole">
            <p:oleObj r:id="rId1" spid="">
              <p:embed/>
              <p:pic>
                <p:nvPicPr>
                  <p:cNvPr id="220" name="" descr=""/>
                  <p:cNvPicPr/>
                  <p:nvPr/>
                </p:nvPicPr>
                <p:blipFill>
                  <a:blip r:embed="rId2"/>
                  <a:stretch/>
                </p:blipFill>
                <p:spPr>
                  <a:xfrm>
                    <a:off x="7232760" y="1539720"/>
                    <a:ext cx="1460520" cy="1152720"/>
                  </a:xfrm>
                  <a:prstGeom prst="rect">
                    <a:avLst/>
                  </a:prstGeom>
                  <a:ln w="0">
                    <a:noFill/>
                  </a:ln>
                </p:spPr>
              </p:pic>
            </p:oleObj>
          </a:graphicData>
        </a:graphic>
      </p:graphicFrame>
      <p:graphicFrame>
        <p:nvGraphicFramePr>
          <p:cNvPr id="221" name=""/>
          <p:cNvGraphicFramePr/>
          <p:nvPr/>
        </p:nvGraphicFramePr>
        <p:xfrm>
          <a:off x="450720" y="1539720"/>
          <a:ext cx="1460520" cy="1152720"/>
        </p:xfrm>
        <a:graphic>
          <a:graphicData uri="http://schemas.openxmlformats.org/presentationml/2006/ole">
            <p:oleObj r:id="rId3" spid="">
              <p:embed/>
              <p:pic>
                <p:nvPicPr>
                  <p:cNvPr id="222" name="" descr=""/>
                  <p:cNvPicPr/>
                  <p:nvPr/>
                </p:nvPicPr>
                <p:blipFill>
                  <a:blip r:embed="rId4"/>
                  <a:stretch/>
                </p:blipFill>
                <p:spPr>
                  <a:xfrm>
                    <a:off x="450720" y="1539720"/>
                    <a:ext cx="1460520" cy="1152720"/>
                  </a:xfrm>
                  <a:prstGeom prst="rect">
                    <a:avLst/>
                  </a:prstGeom>
                  <a:ln w="0">
                    <a:noFill/>
                  </a:ln>
                </p:spPr>
              </p:pic>
            </p:oleObj>
          </a:graphicData>
        </a:graphic>
      </p:graphicFrame>
      <p:sp>
        <p:nvSpPr>
          <p:cNvPr id="3" name="PlaceHolder 2"/>
          <p:cNvSpPr>
            <a:spLocks noGrp="1"/>
          </p:cNvSpPr>
          <p:nvPr>
            <p:ph type="sldNum" idx="3"/>
          </p:nvPr>
        </p:nvSpPr>
        <p:spPr/>
        <p:txBody>
          <a:bodyPr/>
          <a:p>
            <a:fld id="{1BFDF37B-DC9D-47E1-A7B8-8BF1BBA683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24" name=""/>
          <p:cNvSpPr/>
          <p:nvPr/>
        </p:nvSpPr>
        <p:spPr>
          <a:xfrm>
            <a:off x="133200" y="2152800"/>
            <a:ext cx="8801280" cy="350496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00"/>
                </a:solidFill>
                <a:uFillTx/>
                <a:latin typeface="VNI-Helve"/>
              </a:rPr>
              <a:t>Microsof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moät taàm nhìn chieán löôïc ñònh höôùng moïi haønh ñoäng cuûa chuùng ta: Moät maùy tính treân moãi caùi baøn, trong moãi gia ñình, söû duïng nhöõng phaàn meàm cöïc toát nhö laø moät coâng cuï trôï giuùp ñaéc löïc</a:t>
            </a:r>
            <a:endParaRPr b="0" lang="en-US" sz="2400" spc="-1" strike="noStrike">
              <a:solidFill>
                <a:srgbClr val="000000"/>
              </a:solidFill>
              <a:latin typeface="Times New Roman"/>
            </a:endParaRPr>
          </a:p>
        </p:txBody>
      </p:sp>
      <p:graphicFrame>
        <p:nvGraphicFramePr>
          <p:cNvPr id="225" name=""/>
          <p:cNvGraphicFramePr/>
          <p:nvPr/>
        </p:nvGraphicFramePr>
        <p:xfrm>
          <a:off x="469800" y="4397400"/>
          <a:ext cx="1117800" cy="949320"/>
        </p:xfrm>
        <a:graphic>
          <a:graphicData uri="http://schemas.openxmlformats.org/presentationml/2006/ole">
            <p:oleObj r:id="rId1" spid="">
              <p:embed/>
              <p:pic>
                <p:nvPicPr>
                  <p:cNvPr id="226" name="" descr=""/>
                  <p:cNvPicPr/>
                  <p:nvPr/>
                </p:nvPicPr>
                <p:blipFill>
                  <a:blip r:embed="rId2"/>
                  <a:stretch/>
                </p:blipFill>
                <p:spPr>
                  <a:xfrm>
                    <a:off x="469800" y="4397400"/>
                    <a:ext cx="1117800" cy="949320"/>
                  </a:xfrm>
                  <a:prstGeom prst="rect">
                    <a:avLst/>
                  </a:prstGeom>
                  <a:ln w="0">
                    <a:noFill/>
                  </a:ln>
                </p:spPr>
              </p:pic>
            </p:oleObj>
          </a:graphicData>
        </a:graphic>
      </p:graphicFrame>
      <p:graphicFrame>
        <p:nvGraphicFramePr>
          <p:cNvPr id="227" name=""/>
          <p:cNvGraphicFramePr/>
          <p:nvPr/>
        </p:nvGraphicFramePr>
        <p:xfrm>
          <a:off x="7772400" y="4483080"/>
          <a:ext cx="1219320" cy="1039680"/>
        </p:xfrm>
        <a:graphic>
          <a:graphicData uri="http://schemas.openxmlformats.org/presentationml/2006/ole">
            <p:oleObj r:id="rId3" spid="">
              <p:embed/>
              <p:pic>
                <p:nvPicPr>
                  <p:cNvPr id="228" name="" descr=""/>
                  <p:cNvPicPr/>
                  <p:nvPr/>
                </p:nvPicPr>
                <p:blipFill>
                  <a:blip r:embed="rId4"/>
                  <a:stretch/>
                </p:blipFill>
                <p:spPr>
                  <a:xfrm>
                    <a:off x="7772400" y="4483080"/>
                    <a:ext cx="1219320" cy="1039680"/>
                  </a:xfrm>
                  <a:prstGeom prst="rect">
                    <a:avLst/>
                  </a:prstGeom>
                  <a:ln w="0">
                    <a:noFill/>
                  </a:ln>
                </p:spPr>
              </p:pic>
            </p:oleObj>
          </a:graphicData>
        </a:graphic>
      </p:graphicFrame>
      <p:sp>
        <p:nvSpPr>
          <p:cNvPr id="3" name="PlaceHolder 2"/>
          <p:cNvSpPr>
            <a:spLocks noGrp="1"/>
          </p:cNvSpPr>
          <p:nvPr>
            <p:ph type="sldNum" idx="3"/>
          </p:nvPr>
        </p:nvSpPr>
        <p:spPr/>
        <p:txBody>
          <a:bodyPr/>
          <a:p>
            <a:fld id="{F4D31D73-0D24-4339-AED4-0CD39DC29A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30" name=""/>
          <p:cNvSpPr/>
          <p:nvPr/>
        </p:nvSpPr>
        <p:spPr>
          <a:xfrm>
            <a:off x="152280" y="152388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09480" y="149148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Eastman Kodak</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át treân theá giôùi trong lónh vöïc hoùa chaát vaø ñieän töû phuïc vuï coâng nghieäp aûnh.</a:t>
            </a:r>
            <a:endParaRPr b="0" lang="en-US" sz="2400" spc="-1" strike="noStrike">
              <a:solidFill>
                <a:srgbClr val="000000"/>
              </a:solidFill>
              <a:latin typeface="Times New Roman"/>
            </a:endParaRPr>
          </a:p>
        </p:txBody>
      </p:sp>
      <p:sp>
        <p:nvSpPr>
          <p:cNvPr id="232" name=""/>
          <p:cNvSpPr/>
          <p:nvPr/>
        </p:nvSpPr>
        <p:spPr>
          <a:xfrm>
            <a:off x="152280" y="388620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09480" y="385344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ompaq Computer</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ø cung caáp saûn phaåm PC vaø PC servers haøng ñaàu cho  taát caû caùc phaân khuùc khaùch haø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B721444-1C7A-4AD5-AA1A-DCA1C370BE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NI-Helve"/>
              </a:rPr>
              <a:t>Tính chaát cuûa </a:t>
            </a:r>
            <a:br>
              <a:rPr sz="2800"/>
            </a:br>
            <a:r>
              <a:rPr b="1" i="1" lang="en-US" sz="2800" spc="-1" strike="noStrike">
                <a:solidFill>
                  <a:srgbClr val="ffff00"/>
                </a:solidFill>
                <a:latin typeface="VNI-Helve"/>
              </a:rPr>
              <a:t>Baûn phaùt bieåu nhieäm vuï chieán löôïc</a:t>
            </a:r>
            <a:br>
              <a:rPr sz="2800"/>
            </a:br>
            <a:r>
              <a:rPr b="1" i="1" lang="en-US" sz="2800" spc="-1" strike="noStrike">
                <a:solidFill>
                  <a:srgbClr val="ffff00"/>
                </a:solidFill>
                <a:latin typeface="VNI-Helve"/>
              </a:rPr>
              <a:t>(Mission Statement) </a:t>
            </a:r>
            <a:endParaRPr b="1" i="1" lang="en-US" sz="2800" spc="-1" strike="noStrike">
              <a:solidFill>
                <a:srgbClr val="ffff00"/>
              </a:solidFill>
              <a:latin typeface="VNI-Helve"/>
            </a:endParaRPr>
          </a:p>
        </p:txBody>
      </p:sp>
      <p:sp>
        <p:nvSpPr>
          <p:cNvPr id="23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ò theá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ieät coâng ty vôùi caùc ñoái t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ung ñaùnh giaù caùc hoaït ñoä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738AB08-C8C8-484E-BB1A-CD3FB69DC0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 cuûa </a:t>
            </a:r>
            <a:br>
              <a:rPr sz="3400"/>
            </a:br>
            <a:r>
              <a:rPr b="1" i="1" lang="en-US" sz="3400" spc="-1" strike="noStrike">
                <a:solidFill>
                  <a:srgbClr val="ffff00"/>
                </a:solidFill>
                <a:latin typeface="VNI-Helve"/>
              </a:rPr>
              <a:t>Baûn phaùt bieåu nhieäm vuï chieán löôïc</a:t>
            </a:r>
            <a:endParaRPr b="1" i="1" lang="en-US" sz="3400" spc="-1" strike="noStrike">
              <a:solidFill>
                <a:srgbClr val="ffff00"/>
              </a:solidFill>
              <a:latin typeface="VNI-Helve"/>
            </a:endParaRPr>
          </a:p>
        </p:txBody>
      </p:sp>
      <p:sp>
        <p:nvSpPr>
          <p:cNvPr id="237"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ùch ha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phaåm/ dòch vuï</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tröô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oâng ngheä</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uïc tieâu chieán löôïc</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inh lôïi</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àn taïi vaø phaùt trieån</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ö töôûng chuû ñaï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ieát lyù kinh doa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nhaân vieân</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coäng ñoà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BAF33317-1F8A-48FA-8844-1DFAA67C5E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39"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thöïc chaát laø nguyeân taéc hoaëc quan ñieåm quaûn lyù nhaèm ñaït ñöôïc muïc tieâu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nhaèm daãn höôùng moïi hoaït ñoäng töø hoaïch ñònh, quaûn lyù vaø ñieàu haønh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2B1F4B7-97D5-403F-B1EB-59C45BD242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4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We will achieve 20% real growth in earnings next year—to be accomplished through a 10% growth in existing businesses, 5% through creation of new businesses, and 5% through acquisitions.”</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NI-Helve"/>
              </a:rPr>
              <a:t> </a:t>
            </a:r>
            <a:r>
              <a:rPr b="0" lang="en-US" sz="2400" spc="-1" strike="noStrike">
                <a:solidFill>
                  <a:srgbClr val="000000"/>
                </a:solidFill>
                <a:latin typeface="VNI-Helve"/>
              </a:rPr>
              <a:t>“</a:t>
            </a:r>
            <a:r>
              <a:rPr b="0" i="1" lang="en-US" sz="2400" spc="-1" strike="noStrike">
                <a:solidFill>
                  <a:srgbClr val="000000"/>
                </a:solidFill>
                <a:latin typeface="VNI-Helve"/>
              </a:rPr>
              <a:t>20% of our revenues must come from products that are newer than 5 years.</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90 % of our profits will be donated to charity</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The company should grow only as fast as can be financed by internal resources.</a:t>
            </a: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E74A3A6-C45A-4BB7-870D-EF0CFB55B3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uïc tieâu coâng ty</a:t>
            </a:r>
            <a:endParaRPr b="1" i="1" lang="en-US" sz="3400" spc="-1" strike="noStrike">
              <a:solidFill>
                <a:srgbClr val="ffff00"/>
              </a:solidFill>
              <a:latin typeface="VNI-Helve"/>
            </a:endParaRPr>
          </a:p>
        </p:txBody>
      </p:sp>
      <p:sp>
        <p:nvSpPr>
          <p:cNvPr id="24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gaén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daøi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quan troïng cuûa muïc tieâu</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sôû phaân phoái nguoàn löïc</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öu tieân</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oâng cuï ñeå kieåm soaùt vieäc thöïc thi</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cheá ñeå ñaùnh giaù</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ADBCDD1-EC86-4148-A340-D06BA33C9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2" name="PlaceHolder 2"/>
          <p:cNvSpPr>
            <a:spLocks noGrp="1"/>
          </p:cNvSpPr>
          <p:nvPr>
            <p:ph/>
          </p:nvPr>
        </p:nvSpPr>
        <p:spPr>
          <a:xfrm>
            <a:off x="457200" y="1371600"/>
            <a:ext cx="8305920" cy="4572000"/>
          </a:xfrm>
          <a:prstGeom prst="rect">
            <a:avLst/>
          </a:prstGeom>
          <a:noFill/>
          <a:ln w="0">
            <a:noFill/>
          </a:ln>
        </p:spPr>
        <p:txBody>
          <a:bodyPr lIns="90000" rIns="90000" tIns="46800" bIns="46800" anchor="t">
            <a:normAutofit fontScale="87000"/>
          </a:bodyPr>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1: Chieán löôïc vaø quaûn lyù chieán löôïc</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2: Phaân tích moâi tröôøng beân ngoaøi &amp; beân trong</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3: Chieán löôïc toång theå</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4: Chieán löôïc caïnh tranh cô baûn</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5: Thöïc thi chieán löôïc, Ñaùnh giaù vaø ñieàu chænh chieán löôïc</a:t>
            </a:r>
            <a:endParaRPr b="0" lang="en-US" sz="2600" spc="-1" strike="noStrike">
              <a:solidFill>
                <a:srgbClr val="000000"/>
              </a:solidFill>
              <a:latin typeface="VNI-Helve"/>
            </a:endParaRPr>
          </a:p>
        </p:txBody>
      </p:sp>
      <p:sp>
        <p:nvSpPr>
          <p:cNvPr id="4" name="PlaceHolder 3"/>
          <p:cNvSpPr>
            <a:spLocks noGrp="1"/>
          </p:cNvSpPr>
          <p:nvPr>
            <p:ph type="sldNum" idx="3"/>
          </p:nvPr>
        </p:nvSpPr>
        <p:spPr/>
        <p:txBody>
          <a:bodyPr/>
          <a:p>
            <a:fld id="{0C4A8882-532E-4836-B652-388490F9FE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muïc tieâu </a:t>
            </a:r>
            <a:endParaRPr b="1" i="1" lang="en-US" sz="3400" spc="-1" strike="noStrike">
              <a:solidFill>
                <a:srgbClr val="ffff00"/>
              </a:solidFill>
              <a:latin typeface="VNI-Helve"/>
            </a:endParaRPr>
          </a:p>
        </p:txBody>
      </p:sp>
      <p:sp>
        <p:nvSpPr>
          <p:cNvPr id="245"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fontScale="92000"/>
          </a:bodyPr>
          <a:p>
            <a:pPr marL="315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oái ña hoùa lôïi nhuaä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giaù trò</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 vò theá caïnh tra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aãn ñaàu coâng ngheä</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oàn löïc taøi chaù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quaûn lyù vaø khaû naêng phaùt trieå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heä vaø phaùt trieån nhaân vieâ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aùch nhieäm xaõ hoä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4113C06-1D25-4F4B-88FF-3D0C13191D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ieâu chí ñaùnh giaù caùc muïc tieâu </a:t>
            </a:r>
            <a:endParaRPr b="1" i="1" lang="en-US" sz="3400" spc="-1" strike="noStrike">
              <a:solidFill>
                <a:srgbClr val="ffff00"/>
              </a:solidFill>
              <a:latin typeface="VNI-Helve"/>
            </a:endParaRPr>
          </a:p>
        </p:txBody>
      </p:sp>
      <p:sp>
        <p:nvSpPr>
          <p:cNvPr id="247" name="PlaceHolder 2"/>
          <p:cNvSpPr>
            <a:spLocks noGrp="1"/>
          </p:cNvSpPr>
          <p:nvPr>
            <p:ph/>
          </p:nvPr>
        </p:nvSpPr>
        <p:spPr>
          <a:xfrm>
            <a:off x="609120" y="1523880"/>
            <a:ext cx="815364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cuï theå</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linh hoaït</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ñònh löôïng</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thuùc ñaåy</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phuø hôïp</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khaû th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987026B-11F5-4140-AFED-975ECF9AC2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ôïi ích cuûa quaûn lyù chieán löôïc</a:t>
            </a:r>
            <a:endParaRPr b="1" i="1" lang="en-US" sz="3400" spc="-1" strike="noStrike">
              <a:solidFill>
                <a:srgbClr val="ffff00"/>
              </a:solidFill>
              <a:latin typeface="VNI-Helve"/>
            </a:endParaRPr>
          </a:p>
        </p:txBody>
      </p:sp>
      <p:sp>
        <p:nvSpPr>
          <p:cNvPr id="2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y roõ muïc tieâu vaø höôùng ñ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u yù nhieàu hôn ñeán moâi tröôøng kinh doanh luoân thay ñoå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chính xaùc veà nguoàn löïc vaø khaû naê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kieän ñeå thoáng nhaát caùc quyeát ñònh chieán löôïc ôû caùc caá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Ùng phoù chuû ñoäng (proactive) ñoái vôùi söï thay ñoåi cuûa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CB0FE40-75CD-470E-B4B5-0172D7C487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ùch thöùc cuûa quaûn lyù chieán löôïc</a:t>
            </a:r>
            <a:endParaRPr b="1" i="1" lang="en-US" sz="3400" spc="-1" strike="noStrike">
              <a:solidFill>
                <a:srgbClr val="ffff00"/>
              </a:solidFill>
              <a:latin typeface="VNI-Helve"/>
            </a:endParaRPr>
          </a:p>
        </p:txBody>
      </p:sp>
      <p:sp>
        <p:nvSpPr>
          <p:cNvPr id="2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àu thôøi gian vaø noã löïc</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öôøi hoaïch ñònh chieán löôïc </a:t>
            </a:r>
            <a:r>
              <a:rPr b="0" lang="en-US" sz="2800" spc="-1" strike="noStrike">
                <a:solidFill>
                  <a:srgbClr val="000000"/>
                </a:solidFill>
                <a:latin typeface="Symbol"/>
                <a:ea typeface="Symbol"/>
              </a:rPr>
              <a:t></a:t>
            </a:r>
            <a:r>
              <a:rPr b="0" lang="en-US" sz="2800" spc="-1" strike="noStrike">
                <a:solidFill>
                  <a:srgbClr val="000000"/>
                </a:solidFill>
                <a:latin typeface="VNI-Helve"/>
              </a:rPr>
              <a:t> ngöôøi thöïc hieän</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öùng nhaéc, khoâng linh ñoäng</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thôøi gian daøi</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khaû thi cuûa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32E36D7-0B37-4260-8806-05F05844CC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quan ñieåm </a:t>
            </a:r>
            <a:endParaRPr b="1" i="1" lang="en-US" sz="3400" spc="-1" strike="noStrike">
              <a:solidFill>
                <a:srgbClr val="ffff00"/>
              </a:solidFill>
              <a:latin typeface="VNI-Helve"/>
            </a:endParaRPr>
          </a:p>
        </p:txBody>
      </p:sp>
      <p:sp>
        <p:nvSpPr>
          <p:cNvPr id="253"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vaø quaûn lyù chieán löôïc laø khoâng caàn thieát khi moâi tröôøng luoân thay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æ daønh cho nhaø quaûn lyù cao caáp</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keá hoaïch</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oån ñònh vaø khoâng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 vaïch ñöôøng ñi vaø ñích cuoái cu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CAF8A14-C71F-4F35-BC58-27ED2966EC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öu yù </a:t>
            </a:r>
            <a:endParaRPr b="1" i="1" lang="en-US" sz="3400" spc="-1" strike="noStrike">
              <a:solidFill>
                <a:srgbClr val="ffff00"/>
              </a:solidFill>
              <a:latin typeface="VNI-Helve"/>
            </a:endParaRPr>
          </a:p>
        </p:txBody>
      </p:sp>
      <p:sp>
        <p:nvSpPr>
          <p:cNvPr id="25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hay Söï kieä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öôùc tröôùc caàn coù phaûn hoài cuûa böôùc s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thay ñoåi cuûa moãi böôùc coù taùc ñoäng ñeán taát caû caùc böôùc khaùc cuûa qui trì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03504BD-23E0-4F60-9A98-0B6EA61B5D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ûo luaän </a:t>
            </a:r>
            <a:endParaRPr b="1" i="1" lang="en-US" sz="3400" spc="-1" strike="noStrike">
              <a:solidFill>
                <a:srgbClr val="ffff00"/>
              </a:solidFill>
              <a:latin typeface="VNI-Helve"/>
            </a:endParaRPr>
          </a:p>
        </p:txBody>
      </p:sp>
      <p:sp>
        <p:nvSpPr>
          <p:cNvPr id="25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i sao caùc coâng ty vöøa vaø nhoû thöôøng khoâng co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DB809F9-2CD3-4BA1-9B10-5034ADA48EEF}"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øi lieäu tham khaûo</a:t>
            </a:r>
            <a:endParaRPr b="1" i="1" lang="en-US" sz="3400" spc="-1" strike="noStrike">
              <a:solidFill>
                <a:srgbClr val="ffff00"/>
              </a:solidFill>
              <a:latin typeface="VNI-Helve"/>
            </a:endParaRPr>
          </a:p>
        </p:txBody>
      </p:sp>
      <p:sp>
        <p:nvSpPr>
          <p:cNvPr id="9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7000"/>
          </a:bodyPr>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oaïch Ñònh Chieán Löôïc theo Quaù Trình</a:t>
            </a:r>
            <a:r>
              <a:rPr b="0" lang="en-US" sz="2400" spc="-1" strike="noStrike">
                <a:solidFill>
                  <a:srgbClr val="000000"/>
                </a:solidFill>
                <a:latin typeface="VNI-Helve"/>
              </a:rPr>
              <a:t> – Rudolf Gruenig – Phaïm Ngoïc Thuyù, Leâ Thaønh Long vaø Voõ Vaên Huy dòch, NXB KHKT, 2003</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hieán löôïc vaø saùch löôïc kinh doanh </a:t>
            </a:r>
            <a:r>
              <a:rPr b="0" lang="en-US" sz="2400" spc="-1" strike="noStrike">
                <a:solidFill>
                  <a:srgbClr val="000000"/>
                </a:solidFill>
                <a:latin typeface="VNI-Helve"/>
              </a:rPr>
              <a:t>– Garry D. Smith vaø coäng söï, Buøi Vaên Ñoâng dòch, NXB Thoáng Keâ, 2000</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Khaùi luaän vaø Quaûn trò chieán löôïc</a:t>
            </a:r>
            <a:r>
              <a:rPr b="0" lang="en-US" sz="2400" spc="-1" strike="noStrike">
                <a:solidFill>
                  <a:srgbClr val="000000"/>
                </a:solidFill>
                <a:latin typeface="VNI-Helve"/>
              </a:rPr>
              <a:t> – Fred R. David – Tröông Coâng Minh dòch, NXB Thoáng Keâ - 1995</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rafting and Implementing Strategy</a:t>
            </a:r>
            <a:r>
              <a:rPr b="0" lang="en-US" sz="2400" spc="-1" strike="noStrike">
                <a:solidFill>
                  <a:srgbClr val="000000"/>
                </a:solidFill>
                <a:latin typeface="VNI-Helve"/>
              </a:rPr>
              <a:t> – Arthur A. Thompson, A. J. Stricklan III, 10th Edition, McGraw-Hill, 1998</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A985811-7C53-48C6-8F12-7527778773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a:t>
            </a:r>
            <a:endParaRPr b="1" i="1" lang="en-US" sz="3400" spc="-1" strike="noStrike">
              <a:solidFill>
                <a:srgbClr val="ffff00"/>
              </a:solidFill>
              <a:latin typeface="VNI-Helve"/>
            </a:endParaRPr>
          </a:p>
        </p:txBody>
      </p:sp>
      <p:sp>
        <p:nvSpPr>
          <p:cNvPr id="9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ïc baøi giaûng vaø taøi l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aån bò caâu hoûi thaûo luaän (neáu coù)</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m gia thaûo luaän treân lôùp</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 hoïc ñuùng giôø</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äp trung trong giôø hoïc</a:t>
            </a:r>
            <a:endParaRPr b="0" lang="en-US" sz="2800" spc="-1" strike="noStrike">
              <a:solidFill>
                <a:srgbClr val="000000"/>
              </a:solidFill>
              <a:latin typeface="VNI-Hel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E005153-FF9B-4EC3-BADB-8DBABA133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Hình thöùc thi</a:t>
            </a:r>
            <a:endParaRPr b="1" i="1" lang="en-US" sz="3400" spc="-1" strike="noStrike">
              <a:solidFill>
                <a:srgbClr val="ffff00"/>
              </a:solidFill>
              <a:latin typeface="VNI-Helve"/>
            </a:endParaRPr>
          </a:p>
        </p:txBody>
      </p:sp>
      <p:sp>
        <p:nvSpPr>
          <p:cNvPr id="9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aéc nghieäm/vieá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quyeát moät tình huoá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E8DA29E-A86C-4C44-96E8-0AAA148220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ieân heä</a:t>
            </a:r>
            <a:endParaRPr b="1" i="1" lang="en-US" sz="3400" spc="-1" strike="noStrike">
              <a:solidFill>
                <a:srgbClr val="ffff00"/>
              </a:solidFill>
              <a:latin typeface="VNI-Helve"/>
            </a:endParaRPr>
          </a:p>
        </p:txBody>
      </p:sp>
      <p:sp>
        <p:nvSpPr>
          <p:cNvPr id="10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S. Leâ Thaønh Long</a:t>
            </a: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Ban Quan heä Quoác teá</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ïi hoïc Quoác gia – Tp. Hoà Chí Minh</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Email: </a:t>
            </a:r>
            <a:r>
              <a:rPr b="0" lang="en-US" sz="2800" spc="-1" strike="noStrike">
                <a:solidFill>
                  <a:srgbClr val="009900"/>
                </a:solidFill>
                <a:latin typeface="VNI-Helve"/>
              </a:rPr>
              <a:t>ltlong@vnuhcm.edu.vn</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e: 7242181 – 1456</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bile: 0918041187</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DBC02F0-6B40-473E-B062-93AE1F7B84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yø voïng vaø Kieán nghò</a:t>
            </a:r>
            <a:endParaRPr b="1" i="1" lang="en-US" sz="3400" spc="-1" strike="noStrike">
              <a:solidFill>
                <a:srgbClr val="ffff00"/>
              </a:solidFill>
              <a:latin typeface="VNI-Helve"/>
            </a:endParaRPr>
          </a:p>
        </p:txBody>
      </p:sp>
      <p:sp>
        <p:nvSpPr>
          <p:cNvPr id="10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ø voïng/Kieán nghò:</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8D2BB00-528A-4889-89E6-FF13AB84A8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30240" y="1295280"/>
            <a:ext cx="72522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VAØ</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105"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3281400" y="3019320"/>
            <a:ext cx="2585880" cy="2771640"/>
            <a:chOff x="3281400" y="3019320"/>
            <a:chExt cx="2585880" cy="2771640"/>
          </a:xfrm>
        </p:grpSpPr>
        <p:grpSp>
          <p:nvGrpSpPr>
            <p:cNvPr id="107" name=""/>
            <p:cNvGrpSpPr/>
            <p:nvPr/>
          </p:nvGrpSpPr>
          <p:grpSpPr>
            <a:xfrm>
              <a:off x="3281400" y="3019320"/>
              <a:ext cx="2585880" cy="2068920"/>
              <a:chOff x="3281400" y="3019320"/>
              <a:chExt cx="2585880" cy="2068920"/>
            </a:xfrm>
          </p:grpSpPr>
          <p:sp>
            <p:nvSpPr>
              <p:cNvPr id="108"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3326760" y="3220200"/>
                <a:ext cx="2493360" cy="1352160"/>
                <a:chOff x="3326760" y="3220200"/>
                <a:chExt cx="2493360" cy="1352160"/>
              </a:xfrm>
            </p:grpSpPr>
            <p:sp>
              <p:nvSpPr>
                <p:cNvPr id="110"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12" name=""/>
                <p:cNvGrpSpPr/>
                <p:nvPr/>
              </p:nvGrpSpPr>
              <p:grpSpPr>
                <a:xfrm>
                  <a:off x="5600520" y="4342320"/>
                  <a:ext cx="219600" cy="137160"/>
                  <a:chOff x="5600520" y="4342320"/>
                  <a:chExt cx="219600" cy="137160"/>
                </a:xfrm>
              </p:grpSpPr>
              <p:sp>
                <p:nvSpPr>
                  <p:cNvPr id="113"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16"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17" name=""/>
                <p:cNvGrpSpPr/>
                <p:nvPr/>
              </p:nvGrpSpPr>
              <p:grpSpPr>
                <a:xfrm>
                  <a:off x="5209560" y="3421440"/>
                  <a:ext cx="464400" cy="974160"/>
                  <a:chOff x="5209560" y="3421440"/>
                  <a:chExt cx="464400" cy="974160"/>
                </a:xfrm>
              </p:grpSpPr>
              <p:grpSp>
                <p:nvGrpSpPr>
                  <p:cNvPr id="118" name=""/>
                  <p:cNvGrpSpPr/>
                  <p:nvPr/>
                </p:nvGrpSpPr>
                <p:grpSpPr>
                  <a:xfrm>
                    <a:off x="5284080" y="3521160"/>
                    <a:ext cx="104040" cy="291960"/>
                    <a:chOff x="5284080" y="3521160"/>
                    <a:chExt cx="104040" cy="291960"/>
                  </a:xfrm>
                </p:grpSpPr>
                <p:sp>
                  <p:nvSpPr>
                    <p:cNvPr id="119"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1"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22"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4359240" y="3224160"/>
                  <a:ext cx="234000" cy="248760"/>
                  <a:chOff x="4359240" y="3224160"/>
                  <a:chExt cx="234000" cy="248760"/>
                </a:xfrm>
              </p:grpSpPr>
              <p:grpSp>
                <p:nvGrpSpPr>
                  <p:cNvPr id="133" name=""/>
                  <p:cNvGrpSpPr/>
                  <p:nvPr/>
                </p:nvGrpSpPr>
                <p:grpSpPr>
                  <a:xfrm>
                    <a:off x="4451040" y="3378960"/>
                    <a:ext cx="73080" cy="93960"/>
                    <a:chOff x="4451040" y="3378960"/>
                    <a:chExt cx="73080" cy="93960"/>
                  </a:xfrm>
                </p:grpSpPr>
                <p:sp>
                  <p:nvSpPr>
                    <p:cNvPr id="134"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3929760" y="3720240"/>
              <a:ext cx="1238760" cy="2070720"/>
              <a:chOff x="3929760" y="3720240"/>
              <a:chExt cx="1238760" cy="2070720"/>
            </a:xfrm>
          </p:grpSpPr>
          <p:sp>
            <p:nvSpPr>
              <p:cNvPr id="145"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641480" y="3738960"/>
                <a:ext cx="527040" cy="2007360"/>
                <a:chOff x="4641480" y="3738960"/>
                <a:chExt cx="527040" cy="2007360"/>
              </a:xfrm>
            </p:grpSpPr>
            <p:sp>
              <p:nvSpPr>
                <p:cNvPr id="147"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988788CC-DA89-4446-9B5B-B24779F44F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7T03:11:35Z</dcterms:modified>
  <cp:revision>16</cp:revision>
  <dc:subject/>
  <dc:title>PowerPoint Presentation</dc:title>
</cp:coreProperties>
</file>